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2408A-E9DA-468A-9D6A-ABBDF4A14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601D-2E95-4BC7-85C8-510B385ADE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AE4F-6CF4-4BE9-A15E-13A6CF1E7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E42A-7E0A-4938-9965-4584E7481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19AB-799F-42E6-9336-9AA2ADA7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A3D-29D7-4DF7-9CF1-5AF24F9F0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71A1-34C0-4C46-B54F-8E427D14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B838-C9FB-4C87-BA84-9D4B7C17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798D-BA13-4A82-BB53-4565CACB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9267-CBAB-4C58-A72E-75964203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C4EF-8702-425C-A8B0-1A2AEAF4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D220-CA25-482C-A3F5-8816DE95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F4D-6C7D-4179-89C4-7E99405D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A446-FF0C-4992-ADDA-01CFC572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007A-5D89-4D77-93F2-489D349F4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对此演示文稿的权限当前受到限制。只有使用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crosoft Office 2003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或更高版本才能打开该演示文稿。您可以向演示文稿的作者申请一份可以使用“用于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net Explorer </a:t>
            </a:r>
            <a:r>
              <a:rPr b="0" lang="ja-JP" sz="1400" spc="-1" strike="noStrike">
                <a:solidFill>
                  <a:srgbClr val="000000"/>
                </a:solidFill>
                <a:latin typeface="Verdana"/>
              </a:rPr>
              <a:t>的权限管理加载项”阅读的演示文稿副本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2T00:56:25Z</dcterms:created>
  <dc:creator/>
  <dc:description/>
  <dc:language>en-US</dc:language>
  <cp:lastModifiedBy/>
  <dcterms:modified xsi:type="dcterms:W3CDTF">2007-03-29T02:36:06Z</dcterms:modified>
  <cp:revision>81</cp:revision>
  <dc:subject/>
  <dc:title>Permission to this presentation is  currently restricted. This presentation can  be opened by Microsoft Office 11 Beta  or a viewer. For more information,  go to http://office.microsoft.com/viewer.</dc:title>
</cp:coreProperties>
</file>