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2F31-B291-4BAF-A77F-F66ED1BE3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5EE9-AE10-41FE-B613-8946EC8C2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0B85-DAE8-437D-A768-60C97E5A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513-16E5-48CA-B33B-5CD295D72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D008-D730-44EE-BB6A-8BBB477B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D59-5BEC-4455-9690-EDBAD241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D1A-43F7-4404-A85A-6CED7BAA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027D-C016-459A-8BE7-44416E176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1338-2F1B-4C05-B2D3-2D3F9017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9C7E-4511-4933-BFD3-A5450A75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DB3-8F43-4572-8EAE-237494BB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C8D1-B244-4088-8947-0E6A4FD8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0ECA-5733-49B5-9508-F38E5BF0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C631-02A7-4AD4-BA6B-1B1E2820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3928-068A-426E-A1C5-A399A90C75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对此演示文稿的权限当前受到限制。如果没有运行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crosoft Office 2003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或其他支持受限权限演示文稿的应用程序，您可以下载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net Explorer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的权限管理加载项”以阅读此演示文稿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4Z</dcterms:created>
  <dc:creator/>
  <dc:description/>
  <dc:language>en-US</dc:language>
  <cp:lastModifiedBy/>
  <dcterms:modified xsi:type="dcterms:W3CDTF">2007-03-29T02:36:08Z</dcterms:modified>
  <cp:revision>83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