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6CDA-964B-4FCA-8E24-CE4646A9F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2413-3E15-485E-AB9A-580496908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9EE-4027-40E5-A7BD-40605440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982-E679-4DA6-BBF7-8C7C6E6D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846-06FD-4C23-A567-967CEBBD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70F-3EA1-4DAF-A9A5-6953CB44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6A7-AC4E-4841-A84B-974A8B6A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B45-0C68-4429-9E77-E998A183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9980-EFBA-4942-9047-5C137DAE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A285-0E34-4891-B08C-2E351C2A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5C1-1393-42E7-B9A9-1B7B833A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05D-CC3C-4C0D-91B5-92A4A387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3D8-7D3B-4F53-A9EE-C7640CD1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C9A-7A9C-4EC8-BF13-AB6C75B3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9F57-2B04-4EC8-B925-E1B56ECEF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对此演示文稿的权限当前受到限制。只有使用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crosoft Office 2003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或更高版本才能打开该演示文稿。您可以向演示文稿的作者申请一份可以使用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net Explorer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的权限管理加载项”阅读的演示文稿副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5Z</dcterms:created>
  <dc:creator/>
  <dc:description/>
  <dc:language>en-US</dc:language>
  <cp:lastModifiedBy/>
  <dcterms:modified xsi:type="dcterms:W3CDTF">2007-03-29T02:36:06Z</dcterms:modified>
  <cp:revision>81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